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2BC9C-6F37-493E-8B34-84BE45C318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35CB6-ABBB-4190-AED3-E5422576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13FC8-8262-4443-844A-7D27C2C6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9ED47-E2CC-4790-A13A-031A251C01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BFA01-EB75-40FA-B5EF-ADB4CE08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EFB55-C31B-4B69-850E-B71726DE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3CCA6-2200-47EB-BB95-D106C76C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6E101-62D7-443C-8748-52F533506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F246B-81CC-46D8-BDEF-3262ADA17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C439F-57D0-4DB3-8338-AA050EAC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54288-DD7E-4905-A28F-0CDB3DE4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1B32A-C64F-4848-8F61-5696BE4A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90D7-2D10-41F4-B18E-B5C3FAC8FE0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49228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十七章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甲状腺激素与抗甲状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84360" y="163080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禁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肾上腺皮质功能低下、心肌梗死、甲状腺功能亢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慎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绞痛、高血压、肾功能不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64C5-8896-426F-B39C-2E69CF318DF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137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必须遵医嘱按时服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应注意密切观察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儿童服本药时，应注意观察生长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，服药期间不可局部涂搽碘酊、不可吃含碘的药物或含碘量高的食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患者用此类药需增加降糖药的用量，应注意观察血糖及尿糖的变化，并注意低血糖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对同时应用抗凝药的患者应观察其出血现象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圆角矩形 3"/>
          <p:cNvSpPr/>
          <p:nvPr/>
        </p:nvSpPr>
        <p:spPr>
          <a:xfrm>
            <a:off x="250920" y="1484280"/>
            <a:ext cx="7858080" cy="1008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女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。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个月前被诊断为甲亢，给予口服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"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甲巯咪唑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日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0mg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"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近日出现咽痛、发热、咳嗽、咳痰等症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矩形 5"/>
          <p:cNvSpPr/>
          <p:nvPr/>
        </p:nvSpPr>
        <p:spPr>
          <a:xfrm>
            <a:off x="250920" y="2852640"/>
            <a:ext cx="8215200" cy="2073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 39.6℃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 120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R 2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P 100/60mmHg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；精神萎靡；咽红，双侧扁桃体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°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肿大，可见黄色脓苔；双下肺均可闻及湿啰音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实验室检查：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WBC 2.16 ×10</a:t>
            </a:r>
            <a:r>
              <a:rPr b="1" lang="en-US" sz="18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L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中性粒细胞绝对值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0.38×10</a:t>
            </a:r>
            <a:r>
              <a:rPr b="1" lang="en-US" sz="18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L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升高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SH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减低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诊断：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甲亢，粒细胞减少，急性化脓性扁桃体炎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遗嘱：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停服甲巯咪唑；予以普萘洛尔、广谱抗生素、口服利血生、鲨肝醇等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圆角矩形 3"/>
          <p:cNvSpPr/>
          <p:nvPr/>
        </p:nvSpPr>
        <p:spPr>
          <a:xfrm>
            <a:off x="324000" y="5229360"/>
            <a:ext cx="7858080" cy="1008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问题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．本例患者出现急性化脓性扁桃体炎，肺部感染的主要原因是什么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．应用抗甲状腺药物期间应注意哪些事项，定期检查哪些项目？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抗甲状腺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状腺功能亢进（甲亢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324000" y="2276640"/>
            <a:ext cx="85834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组织增生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激素分泌过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324000" y="306864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肿大、突眼、神经过敏、心率增快、基础代谢增高等，严重者可发生甲状腺危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4" name="Picture 7" descr="nk10"/>
          <p:cNvPicPr/>
          <p:nvPr/>
        </p:nvPicPr>
        <p:blipFill>
          <a:blip r:embed="rId1"/>
          <a:stretch/>
        </p:blipFill>
        <p:spPr>
          <a:xfrm>
            <a:off x="1403280" y="4149720"/>
            <a:ext cx="2540160" cy="2089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甲亢5"/>
          <p:cNvPicPr/>
          <p:nvPr/>
        </p:nvPicPr>
        <p:blipFill>
          <a:blip r:embed="rId2"/>
          <a:stretch/>
        </p:blipFill>
        <p:spPr>
          <a:xfrm>
            <a:off x="4500720" y="4149720"/>
            <a:ext cx="24476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亢的治疗有哪些方法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24000" y="141300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科治疗：药物   硫脲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碘化物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73320" y="3460680"/>
            <a:ext cx="37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射性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 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破坏甲状腺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1112040" y="4684680"/>
            <a:ext cx="24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术：甲状腺次全切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3203640" y="198900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58920" y="333000"/>
            <a:ext cx="5018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．硫脲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250920" y="1484280"/>
            <a:ext cx="8512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氧嘧啶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hiouraci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基硫氧嘧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methy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hiouracil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 MTU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丙基硫氧嘧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opylthiouracil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TU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647280" y="4087800"/>
            <a:ext cx="7158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咪唑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mid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甲巯咪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hiamazole,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他巴唑 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p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卡比马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rbima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亢平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arbim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921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药理作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1373040" y="2205000"/>
            <a:ext cx="5862600" cy="923400"/>
            <a:chOff x="1373040" y="2205000"/>
            <a:chExt cx="5862600" cy="923400"/>
          </a:xfrm>
        </p:grpSpPr>
        <p:sp>
          <p:nvSpPr>
            <p:cNvPr id="219" name="Rectangle 6"/>
            <p:cNvSpPr/>
            <p:nvPr/>
          </p:nvSpPr>
          <p:spPr>
            <a:xfrm>
              <a:off x="1373040" y="22460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抑制过氧化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Rectangle 7"/>
            <p:cNvSpPr/>
            <p:nvPr/>
          </p:nvSpPr>
          <p:spPr>
            <a:xfrm>
              <a:off x="3953880" y="2206440"/>
              <a:ext cx="75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酪氨酸碘化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Rectangle 8"/>
            <p:cNvSpPr/>
            <p:nvPr/>
          </p:nvSpPr>
          <p:spPr>
            <a:xfrm>
              <a:off x="5504040" y="2205000"/>
              <a:ext cx="173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碘化酪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Rectangle 9"/>
            <p:cNvSpPr/>
            <p:nvPr/>
          </p:nvSpPr>
          <p:spPr>
            <a:xfrm>
              <a:off x="1684440" y="266868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氨酸耦联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Rectangle 10"/>
            <p:cNvSpPr/>
            <p:nvPr/>
          </p:nvSpPr>
          <p:spPr>
            <a:xfrm>
              <a:off x="4079520" y="2663640"/>
              <a:ext cx="101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甲状腺激素合成 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4" name="Rectangle 11"/>
          <p:cNvSpPr/>
          <p:nvPr/>
        </p:nvSpPr>
        <p:spPr>
          <a:xfrm>
            <a:off x="516960" y="1612800"/>
            <a:ext cx="249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成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12">
            <a:hlinkClick r:id="" action="ppaction://hlinkshowjump?jump=previousslide"/>
          </p:cNvPr>
          <p:cNvSpPr/>
          <p:nvPr/>
        </p:nvSpPr>
        <p:spPr>
          <a:xfrm>
            <a:off x="324000" y="3357720"/>
            <a:ext cx="4794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抑制外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转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755640" y="4076640"/>
            <a:ext cx="6985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丙硫氧嘧啶及甲巯咪唑抑制外周组织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→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故在重症甲亢、甲亢危象时首选丙硫氧嘧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4920" y="1699920"/>
            <a:ext cx="8001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免疫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3635280" y="2638440"/>
            <a:ext cx="568440" cy="1944720"/>
          </a:xfrm>
          <a:custGeom>
            <a:avLst/>
            <a:gdLst>
              <a:gd name="textAreaLeft" fmla="*/ 0 w 568440"/>
              <a:gd name="textAreaRight" fmla="*/ 205200 w 5684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714"/>
                </a:lnTo>
                <a:cubicBezTo>
                  <a:pt x="10800" y="10614"/>
                  <a:pt x="16200" y="11514"/>
                  <a:pt x="21600" y="11514"/>
                </a:cubicBezTo>
                <a:cubicBezTo>
                  <a:pt x="16200" y="11514"/>
                  <a:pt x="10800" y="12414"/>
                  <a:pt x="10800" y="1331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4356000" y="3718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5003640" y="3141720"/>
            <a:ext cx="32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腺增生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成↑→甲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539640" y="2709720"/>
            <a:ext cx="327672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身免疫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腺刺激性免疫球蛋白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生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甲状腺细胞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H R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4427640" y="3502080"/>
            <a:ext cx="3045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4572000" y="3358800"/>
            <a:ext cx="0" cy="304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3640" y="4941720"/>
            <a:ext cx="81327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硫脲类药↓自身抗体的生成→抑制自身免疫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479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5DC4-C6ED-4CD0-BB41-57B677D5C7E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324000" y="3573360"/>
            <a:ext cx="83534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术前准备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使甲状腺功能接近正常，减少手术后并发症发生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但用药后甲状腺腺体增生、充血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因此需在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加服大剂量碘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324000" y="1844640"/>
            <a:ext cx="8353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的内科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度或不宜手术或放射性碘治疗者。当基础代谢率正常时，减少至维持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479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395280" y="4437000"/>
            <a:ext cx="561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受体阻断剂控制交感神经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860400" y="1322280"/>
            <a:ext cx="44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甲状腺危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yroid cris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辅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1221120" y="3213000"/>
            <a:ext cx="362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主要用大剂量碘剂抑制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 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1259280" y="3933720"/>
            <a:ext cx="36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用大剂量硫脲类阻止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 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324000" y="1844640"/>
            <a:ext cx="822960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由于精神刺激、感染、手术等诱因，使大量甲状腺激素释放入血，导致病情急剧恶化。患者发生高热、虚脱、肺水肿、水电解质紊乱，严重可致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甲状腺激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抗甲状腺药</a:t>
            </a: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35280" y="321300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79640" y="3284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3635280" y="35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硫脲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碘和碘化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放射性碘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黑体"/>
                <a:ea typeface="黑体"/>
              </a:rPr>
              <a:t>β</a:t>
            </a: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受体阻断药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21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324000" y="1557360"/>
            <a:ext cx="85341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粒细胞缺乏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ranulocyt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: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最严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发生在治疗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甲硫氧嘧啶和卡比马唑为多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24000" y="2781360"/>
            <a:ext cx="84247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敏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llergic reac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: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最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疹、瘙痒等，严重者可致剥脱性皮炎，需停药或应用糖皮质激素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24000" y="4005360"/>
            <a:ext cx="8588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肿大和功能减退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甲状腺充血、代偿性增生肿大、变脆、功能减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324000" y="51451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肝功能损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出现转氨酶升高，甚至出现黄疸，应及时停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24000" y="2133720"/>
            <a:ext cx="799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节性甲状腺肿合并甲亢、甲状腺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694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250920" y="195264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一定遵医嘱按时服药，不可随意改变剂量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间隔时间和疗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为减少胃肠道反应，可在进餐时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密切观察患者发热、咽痛、皮疹、乏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症状，并注意血象变化，发现异常及时报告给医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意观察肝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硫脲类用药期间应注意观察有无出血倾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碘和碘化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53964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odine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碘化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odide)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用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碘化钾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tassium iod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碘化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odium chlor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方碘溶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iquor iodi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Co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卢戈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ugol’s solu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37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药理作用和应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250920" y="2492280"/>
            <a:ext cx="7850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剂量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用：甲状腺激素合成的原料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应用：防治单纯甲状腺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盐中加入碘化钾或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化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10000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:100000)</a:t>
            </a:r>
            <a:br>
              <a:rPr sz="2400"/>
            </a:b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13420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同剂量碘化物对甲状腺功能产生不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755640" y="1413000"/>
            <a:ext cx="813600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剂量碘    抗甲状腺激素作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6mg/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用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①抑制蛋白水解酶，抑制甲状腺激素释放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② 抑制过氧化物酶，影响碘化和偶合，使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垂体分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H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甲状腺缩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767880" y="34909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应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971640" y="4005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术前准备：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加服复方碘溶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1042920" y="45813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危象的治疗：静注复方碘溶液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不作为常规治疗，因为有自限性、逃逸性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066680" y="27432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63360" y="1778040"/>
            <a:ext cx="533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血液中碘化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Line 4"/>
          <p:cNvSpPr/>
          <p:nvPr/>
        </p:nvSpPr>
        <p:spPr>
          <a:xfrm>
            <a:off x="520560" y="3124080"/>
            <a:ext cx="811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468360" y="2637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碘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1289160" y="1982880"/>
            <a:ext cx="533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甲状腺细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179064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1657440" y="25146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过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化物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2819520" y="2362320"/>
            <a:ext cx="53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活性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1"/>
          <p:cNvSpPr/>
          <p:nvPr/>
        </p:nvSpPr>
        <p:spPr>
          <a:xfrm>
            <a:off x="3352680" y="3124080"/>
            <a:ext cx="12956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Arc 12"/>
          <p:cNvSpPr/>
          <p:nvPr/>
        </p:nvSpPr>
        <p:spPr>
          <a:xfrm rot="15735000">
            <a:off x="3705120" y="3174480"/>
            <a:ext cx="609480" cy="552240"/>
          </a:xfrm>
          <a:custGeom>
            <a:avLst/>
            <a:gdLst>
              <a:gd name="textAreaLeft" fmla="*/ 0 w 609480"/>
              <a:gd name="textAreaRight" fmla="*/ 609840 w 609480"/>
              <a:gd name="textAreaTop" fmla="*/ 0 h 552240"/>
              <a:gd name="textAreaBottom" fmla="*/ 552600 h 552240"/>
            </a:gdLst>
            <a:ahLst/>
            <a:rect l="textAreaLeft" t="textAreaTop" r="textAreaRight" b="textAreaBottom"/>
            <a:pathLst>
              <a:path fill="none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</a:path>
              <a:path stroke="0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  <a:lnTo>
                  <a:pt x="0" y="20282"/>
                </a:lnTo>
                <a:lnTo>
                  <a:pt x="7429" y="0"/>
                </a:lnTo>
                <a:close/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3281400" y="35542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TG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上的酪氨酸残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4621320" y="25210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M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D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5375160" y="3124080"/>
            <a:ext cx="134640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5562720" y="262584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过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化物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Arc 17"/>
          <p:cNvSpPr/>
          <p:nvPr/>
        </p:nvSpPr>
        <p:spPr>
          <a:xfrm rot="15735000">
            <a:off x="5446440" y="3152520"/>
            <a:ext cx="609840" cy="552600"/>
          </a:xfrm>
          <a:custGeom>
            <a:avLst/>
            <a:gdLst>
              <a:gd name="textAreaLeft" fmla="*/ 0 w 609840"/>
              <a:gd name="textAreaRight" fmla="*/ 610200 w 60984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fill="none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</a:path>
              <a:path stroke="0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  <a:lnTo>
                  <a:pt x="0" y="20282"/>
                </a:lnTo>
                <a:lnTo>
                  <a:pt x="7429" y="0"/>
                </a:lnTo>
                <a:close/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51642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DI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6629400" y="2529000"/>
            <a:ext cx="6094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20"/>
          <p:cNvSpPr/>
          <p:nvPr/>
        </p:nvSpPr>
        <p:spPr>
          <a:xfrm>
            <a:off x="7086600" y="2133720"/>
            <a:ext cx="533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滤泡腔胶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769608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7620120" y="2610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水解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23"/>
          <p:cNvSpPr/>
          <p:nvPr/>
        </p:nvSpPr>
        <p:spPr>
          <a:xfrm>
            <a:off x="8291520" y="2008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血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24"/>
          <p:cNvSpPr/>
          <p:nvPr/>
        </p:nvSpPr>
        <p:spPr>
          <a:xfrm>
            <a:off x="8616960" y="2549520"/>
            <a:ext cx="6094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Text Box 25"/>
          <p:cNvSpPr/>
          <p:nvPr/>
        </p:nvSpPr>
        <p:spPr>
          <a:xfrm>
            <a:off x="3962520" y="5181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腺垂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Text Box 26"/>
          <p:cNvSpPr/>
          <p:nvPr/>
        </p:nvSpPr>
        <p:spPr>
          <a:xfrm>
            <a:off x="3943440" y="6192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下丘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27"/>
          <p:cNvSpPr/>
          <p:nvPr/>
        </p:nvSpPr>
        <p:spPr>
          <a:xfrm>
            <a:off x="4572000" y="58053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宋体"/>
              </a:rPr>
              <a:t>TR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Text Box 28"/>
          <p:cNvSpPr/>
          <p:nvPr/>
        </p:nvSpPr>
        <p:spPr>
          <a:xfrm>
            <a:off x="4427640" y="4653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S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29"/>
          <p:cNvSpPr/>
          <p:nvPr/>
        </p:nvSpPr>
        <p:spPr>
          <a:xfrm rot="16200000">
            <a:off x="3998880" y="4722480"/>
            <a:ext cx="800280" cy="228600"/>
          </a:xfrm>
          <a:custGeom>
            <a:avLst/>
            <a:gdLst>
              <a:gd name="textAreaLeft" fmla="*/ 124920 w 800280"/>
              <a:gd name="textAreaRight" fmla="*/ 700560 w 8002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30"/>
          <p:cNvSpPr/>
          <p:nvPr/>
        </p:nvSpPr>
        <p:spPr>
          <a:xfrm rot="16200000">
            <a:off x="4241520" y="5919480"/>
            <a:ext cx="495360" cy="266760"/>
          </a:xfrm>
          <a:custGeom>
            <a:avLst/>
            <a:gdLst>
              <a:gd name="textAreaLeft" fmla="*/ 77400 w 495360"/>
              <a:gd name="textAreaRight" fmla="*/ 433440 w 495360"/>
              <a:gd name="textAreaTop" fmla="*/ 66600 h 266760"/>
              <a:gd name="textAreaBottom" fmla="*/ 200160 h 2667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Oval 31"/>
          <p:cNvSpPr/>
          <p:nvPr/>
        </p:nvSpPr>
        <p:spPr>
          <a:xfrm>
            <a:off x="609480" y="6019920"/>
            <a:ext cx="129564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小量</a:t>
            </a:r>
            <a:r>
              <a:rPr b="1" lang="en-US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1d1d75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Line 32"/>
          <p:cNvSpPr/>
          <p:nvPr/>
        </p:nvSpPr>
        <p:spPr>
          <a:xfrm flipH="1" flipV="1">
            <a:off x="380520" y="4343400"/>
            <a:ext cx="304920" cy="19051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Oval 33"/>
          <p:cNvSpPr/>
          <p:nvPr/>
        </p:nvSpPr>
        <p:spPr>
          <a:xfrm>
            <a:off x="5334120" y="457200"/>
            <a:ext cx="1295280" cy="53352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大量</a:t>
            </a:r>
            <a:r>
              <a:rPr b="1" lang="en-US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1d1d75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Line 34"/>
          <p:cNvSpPr/>
          <p:nvPr/>
        </p:nvSpPr>
        <p:spPr>
          <a:xfrm>
            <a:off x="6248520" y="990720"/>
            <a:ext cx="1676160" cy="152388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utoShape 35"/>
          <p:cNvSpPr/>
          <p:nvPr/>
        </p:nvSpPr>
        <p:spPr>
          <a:xfrm rot="16368600">
            <a:off x="7918920" y="243000"/>
            <a:ext cx="1087560" cy="1362240"/>
          </a:xfrm>
          <a:prstGeom prst="wedgeEllipseCallout">
            <a:avLst>
              <a:gd name="adj1" fmla="val -126833"/>
              <a:gd name="adj2" fmla="val -30680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Oval 36"/>
          <p:cNvSpPr/>
          <p:nvPr/>
        </p:nvSpPr>
        <p:spPr>
          <a:xfrm>
            <a:off x="6248520" y="6019920"/>
            <a:ext cx="129528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大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37"/>
          <p:cNvSpPr/>
          <p:nvPr/>
        </p:nvSpPr>
        <p:spPr>
          <a:xfrm>
            <a:off x="826920" y="4724280"/>
            <a:ext cx="2225880" cy="1101960"/>
          </a:xfrm>
          <a:prstGeom prst="borderCallout1">
            <a:avLst>
              <a:gd name="adj1" fmla="val 18750"/>
              <a:gd name="adj2" fmla="val -8333"/>
              <a:gd name="adj3" fmla="val -20314"/>
              <a:gd name="adj4" fmla="val -16120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促进甲状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激素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Line 38"/>
          <p:cNvSpPr/>
          <p:nvPr/>
        </p:nvSpPr>
        <p:spPr>
          <a:xfrm>
            <a:off x="5943600" y="1066680"/>
            <a:ext cx="76320" cy="152424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AutoShape 39"/>
          <p:cNvSpPr/>
          <p:nvPr/>
        </p:nvSpPr>
        <p:spPr>
          <a:xfrm rot="16368600">
            <a:off x="3462840" y="575640"/>
            <a:ext cx="1217520" cy="1295280"/>
          </a:xfrm>
          <a:prstGeom prst="wedgeEllipseCallout">
            <a:avLst>
              <a:gd name="adj1" fmla="val -95976"/>
              <a:gd name="adj2" fmla="val 149407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Line 40"/>
          <p:cNvSpPr/>
          <p:nvPr/>
        </p:nvSpPr>
        <p:spPr>
          <a:xfrm flipH="1" flipV="1">
            <a:off x="5292720" y="5516640"/>
            <a:ext cx="1641600" cy="42696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AutoShape 41"/>
          <p:cNvSpPr/>
          <p:nvPr/>
        </p:nvSpPr>
        <p:spPr>
          <a:xfrm rot="16368600">
            <a:off x="7609320" y="3953160"/>
            <a:ext cx="1157400" cy="1904760"/>
          </a:xfrm>
          <a:prstGeom prst="wedgeEllipseCallout">
            <a:avLst>
              <a:gd name="adj1" fmla="val -46518"/>
              <a:gd name="adj2" fmla="val -154407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分泌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TS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42"/>
          <p:cNvSpPr/>
          <p:nvPr/>
        </p:nvSpPr>
        <p:spPr>
          <a:xfrm>
            <a:off x="250920" y="692280"/>
            <a:ext cx="273672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碘剂作用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不良反应和禁忌证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250920" y="235620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一般不良反应：咽喉部不适，呼吸道刺激症状、唾液腺肿大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过敏反应：发热、皮疹、皮炎及血管神经性水肿。重者可发生喉头水肿，窒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诱发甲状腺功能紊乱：长期应用可诱发甲亢。碘能进入乳汁并能通过胎盘，引起新生儿甲状腺肿，严重者可压迫气管而致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孕妇与哺乳妇女慎用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3"/>
          <p:cNvGrpSpPr/>
          <p:nvPr/>
        </p:nvGrpSpPr>
        <p:grpSpPr>
          <a:xfrm>
            <a:off x="290520" y="3406680"/>
            <a:ext cx="1085760" cy="914400"/>
            <a:chOff x="290520" y="3406680"/>
            <a:chExt cx="1085760" cy="914400"/>
          </a:xfrm>
        </p:grpSpPr>
        <p:sp>
          <p:nvSpPr>
            <p:cNvPr id="309" name="Oval 4"/>
            <p:cNvSpPr/>
            <p:nvPr/>
          </p:nvSpPr>
          <p:spPr>
            <a:xfrm>
              <a:off x="290520" y="3406680"/>
              <a:ext cx="990720" cy="914400"/>
            </a:xfrm>
            <a:prstGeom prst="ellipse">
              <a:avLst/>
            </a:prstGeom>
            <a:solidFill>
              <a:srgbClr val="8ac8de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5"/>
            <p:cNvSpPr/>
            <p:nvPr/>
          </p:nvSpPr>
          <p:spPr>
            <a:xfrm>
              <a:off x="385920" y="3597120"/>
              <a:ext cx="99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 baseline="30000">
                  <a:solidFill>
                    <a:srgbClr val="ff0000"/>
                  </a:solidFill>
                  <a:latin typeface="Times New Roman"/>
                  <a:ea typeface="华文新魏"/>
                </a:rPr>
                <a:t>131</a:t>
              </a: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I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1" name="Text Box 6"/>
          <p:cNvSpPr/>
          <p:nvPr/>
        </p:nvSpPr>
        <p:spPr>
          <a:xfrm>
            <a:off x="2023920" y="2263680"/>
            <a:ext cx="1600200" cy="11912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射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99%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射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mm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4500720" y="2492280"/>
            <a:ext cx="1600200" cy="45972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破坏甲状腺实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6958080" y="2054160"/>
            <a:ext cx="1752480" cy="11912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治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硫脲类无效不宜手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复发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2062080" y="4226040"/>
            <a:ext cx="160020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线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占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1</a:t>
            </a:r>
            <a:r>
              <a:rPr b="0" lang="en-GB" sz="2400" spc="-1" strike="noStrike">
                <a:solidFill>
                  <a:srgbClr val="0000cc"/>
                </a:solidFill>
                <a:latin typeface="宋体"/>
                <a:ea typeface="宋体"/>
              </a:rPr>
              <a:t>%,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程长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4500720" y="4226040"/>
            <a:ext cx="160020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体外测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7015320" y="4206960"/>
            <a:ext cx="152388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甲状腺摄碘功能测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12"/>
          <p:cNvSpPr/>
          <p:nvPr/>
        </p:nvSpPr>
        <p:spPr>
          <a:xfrm>
            <a:off x="3643200" y="27972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13"/>
          <p:cNvSpPr/>
          <p:nvPr/>
        </p:nvSpPr>
        <p:spPr>
          <a:xfrm>
            <a:off x="6100920" y="27972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14"/>
          <p:cNvSpPr/>
          <p:nvPr/>
        </p:nvSpPr>
        <p:spPr>
          <a:xfrm>
            <a:off x="6176880" y="4530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5"/>
          <p:cNvSpPr/>
          <p:nvPr/>
        </p:nvSpPr>
        <p:spPr>
          <a:xfrm>
            <a:off x="3662280" y="4530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6"/>
          <p:cNvSpPr/>
          <p:nvPr/>
        </p:nvSpPr>
        <p:spPr>
          <a:xfrm>
            <a:off x="1471680" y="2873520"/>
            <a:ext cx="438120" cy="1962000"/>
          </a:xfrm>
          <a:custGeom>
            <a:avLst/>
            <a:gdLst>
              <a:gd name="textAreaLeft" fmla="*/ 280080 w 438120"/>
              <a:gd name="textAreaRight" fmla="*/ 438480 w 438120"/>
              <a:gd name="textAreaTop" fmla="*/ 51120 h 1962000"/>
              <a:gd name="textAreaBottom" fmla="*/ 191088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18"/>
          <p:cNvSpPr/>
          <p:nvPr/>
        </p:nvSpPr>
        <p:spPr>
          <a:xfrm>
            <a:off x="5822640" y="333360"/>
            <a:ext cx="20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放射性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4000" y="4868640"/>
            <a:ext cx="56163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、妊娠、哺乳妇女、肝肾功能减退、白细胞减少和甲状腺危象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476720" y="13539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250920" y="19382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甲状腺功能低下，发生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956160" y="3573360"/>
            <a:ext cx="26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否致癌和诱发白血病？</a:t>
            </a:r>
            <a:br>
              <a:rPr sz="2400"/>
            </a:b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1415160" y="4221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250920" y="2781360"/>
            <a:ext cx="68403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卵巢也是碘集中场所，可对遗传产生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5671800" y="333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不良反应和禁忌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硫脲类抗甲状腺药物的作用、临床应用、不       良反应和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甲状腺激素、碘和碘化物作用特点、临床应用、不良反应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和放射性碘的临床应用及用药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9208-ADC0-4C1F-8AD3-F3410C4DEEA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539640" y="1700640"/>
            <a:ext cx="777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时，应严格遵守正确操作规程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格掌握用药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应密切观察甲状腺功能低下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治疗前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应避免用碘剂及其他含碘食物或药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患者，如治疗前准备不充分，可发生甲亢危象。故用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后应密切观察甲亢危象的症状，并注意预防感染及避免精神刺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47527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普萘洛尔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066680" y="1828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179280" y="2997360"/>
            <a:ext cx="2229120" cy="10688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locking β-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r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ceptor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5" name="Group 5"/>
          <p:cNvGrpSpPr/>
          <p:nvPr/>
        </p:nvGrpSpPr>
        <p:grpSpPr>
          <a:xfrm>
            <a:off x="3181320" y="2549520"/>
            <a:ext cx="2514600" cy="1939680"/>
            <a:chOff x="3181320" y="2549520"/>
            <a:chExt cx="2514600" cy="1939680"/>
          </a:xfrm>
        </p:grpSpPr>
        <p:sp>
          <p:nvSpPr>
            <p:cNvPr id="336" name="Text Box 6"/>
            <p:cNvSpPr/>
            <p:nvPr/>
          </p:nvSpPr>
          <p:spPr>
            <a:xfrm>
              <a:off x="3181320" y="2549520"/>
              <a:ext cx="2514600" cy="947160"/>
            </a:xfrm>
            <a:prstGeom prst="rect">
              <a:avLst/>
            </a:prstGeom>
            <a:solidFill>
              <a:srgbClr val="ddf9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心率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, 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焦虑 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Text Box 7"/>
            <p:cNvSpPr/>
            <p:nvPr/>
          </p:nvSpPr>
          <p:spPr>
            <a:xfrm>
              <a:off x="3181320" y="3483000"/>
              <a:ext cx="2514600" cy="1006200"/>
            </a:xfrm>
            <a:prstGeom prst="rect">
              <a:avLst/>
            </a:prstGeom>
            <a:solidFill>
              <a:srgbClr val="ddf9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抑制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5</a:t>
              </a:r>
              <a:r>
                <a:rPr b="0" lang="zh-CN" sz="2800" spc="-1" strike="noStrike">
                  <a:solidFill>
                    <a:srgbClr val="0000cc"/>
                  </a:solidFill>
                  <a:latin typeface="Times New Roman"/>
                  <a:ea typeface="宋体"/>
                </a:rPr>
                <a:t>’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-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脱碘酶</a:t>
              </a:r>
              <a:r>
                <a:rPr b="0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0" lang="en-GB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T</a:t>
              </a:r>
              <a:r>
                <a:rPr b="0" lang="en-GB" sz="2800" spc="-1" strike="noStrike" baseline="-25000">
                  <a:solidFill>
                    <a:srgbClr val="0000cc"/>
                  </a:solidFill>
                  <a:latin typeface="宋体"/>
                  <a:ea typeface="宋体"/>
                </a:rPr>
                <a:t>3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生成 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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8" name="Text Box 8"/>
          <p:cNvSpPr/>
          <p:nvPr/>
        </p:nvSpPr>
        <p:spPr>
          <a:xfrm>
            <a:off x="6691320" y="2522520"/>
            <a:ext cx="2128680" cy="137376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甲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甲状腺危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术前准备辅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AutoShape 9"/>
          <p:cNvSpPr/>
          <p:nvPr/>
        </p:nvSpPr>
        <p:spPr>
          <a:xfrm>
            <a:off x="2386080" y="332280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utoShape 10"/>
          <p:cNvSpPr/>
          <p:nvPr/>
        </p:nvSpPr>
        <p:spPr>
          <a:xfrm>
            <a:off x="5796000" y="328464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3890880" y="1989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药理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6964200" y="1947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临床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13"/>
          <p:cNvSpPr/>
          <p:nvPr/>
        </p:nvSpPr>
        <p:spPr>
          <a:xfrm>
            <a:off x="5561640" y="333360"/>
            <a:ext cx="259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. 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受体阻断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思考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状腺激素的药理作用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硫脲类临床应用、不良反应和药疗监护须知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亢手术前准备 应用何药？各自的理由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碘及碘化物抗甲状腺的作用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501D-1BB4-46D5-9CCD-3B855812613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甲状腺激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来源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由甲状腺腺泡合成和分泌，是维持机体组织细胞正常代谢、促进生长发育及控制基础代谢所必需的激素。包括甲状腺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和三碘甲状腺原氨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066680" y="27432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79280" y="1341360"/>
            <a:ext cx="533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  <a:ea typeface="宋体"/>
              </a:rPr>
              <a:t>血液中</a:t>
            </a: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539640" y="3213000"/>
            <a:ext cx="811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9" name="Group 6"/>
          <p:cNvGrpSpPr/>
          <p:nvPr/>
        </p:nvGrpSpPr>
        <p:grpSpPr>
          <a:xfrm>
            <a:off x="1619280" y="2565360"/>
            <a:ext cx="2409840" cy="593640"/>
            <a:chOff x="1619280" y="2565360"/>
            <a:chExt cx="2409840" cy="593640"/>
          </a:xfrm>
        </p:grpSpPr>
        <p:sp>
          <p:nvSpPr>
            <p:cNvPr id="130" name="Line 7"/>
            <p:cNvSpPr/>
            <p:nvPr/>
          </p:nvSpPr>
          <p:spPr>
            <a:xfrm>
              <a:off x="1763640" y="3141720"/>
              <a:ext cx="1486080" cy="1728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Text Box 8"/>
            <p:cNvSpPr/>
            <p:nvPr/>
          </p:nvSpPr>
          <p:spPr>
            <a:xfrm>
              <a:off x="1619280" y="2565360"/>
              <a:ext cx="24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过氧化物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2" name="Text Box 9"/>
          <p:cNvSpPr/>
          <p:nvPr/>
        </p:nvSpPr>
        <p:spPr>
          <a:xfrm>
            <a:off x="3348000" y="28526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zh-CN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3" name="Group 10"/>
          <p:cNvGrpSpPr/>
          <p:nvPr/>
        </p:nvGrpSpPr>
        <p:grpSpPr>
          <a:xfrm>
            <a:off x="3281400" y="3111840"/>
            <a:ext cx="1600200" cy="1267920"/>
            <a:chOff x="3281400" y="3111840"/>
            <a:chExt cx="1600200" cy="1267920"/>
          </a:xfrm>
        </p:grpSpPr>
        <p:sp>
          <p:nvSpPr>
            <p:cNvPr id="134" name="Line 11"/>
            <p:cNvSpPr/>
            <p:nvPr/>
          </p:nvSpPr>
          <p:spPr>
            <a:xfrm flipV="1">
              <a:off x="3708360" y="3123720"/>
              <a:ext cx="939960" cy="1764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rc 12"/>
            <p:cNvSpPr/>
            <p:nvPr/>
          </p:nvSpPr>
          <p:spPr>
            <a:xfrm rot="15735000">
              <a:off x="3705120" y="3174480"/>
              <a:ext cx="609480" cy="5522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fill="none" w="21220" h="20282">
                  <a:moveTo>
                    <a:pt x="7429" y="0"/>
                  </a:moveTo>
                  <a:cubicBezTo>
                    <a:pt x="14564" y="2613"/>
                    <a:pt x="19801" y="8784"/>
                    <a:pt x="21220" y="16248"/>
                  </a:cubicBezTo>
                </a:path>
                <a:path stroke="0" w="21220" h="20282">
                  <a:moveTo>
                    <a:pt x="7429" y="0"/>
                  </a:moveTo>
                  <a:cubicBezTo>
                    <a:pt x="14564" y="2613"/>
                    <a:pt x="19801" y="8784"/>
                    <a:pt x="21220" y="16248"/>
                  </a:cubicBezTo>
                  <a:lnTo>
                    <a:pt x="0" y="20282"/>
                  </a:lnTo>
                  <a:lnTo>
                    <a:pt x="7429" y="0"/>
                  </a:lnTo>
                  <a:close/>
                </a:path>
              </a:pathLst>
            </a:custGeom>
            <a:noFill/>
            <a:ln w="381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 Box 13"/>
            <p:cNvSpPr/>
            <p:nvPr/>
          </p:nvSpPr>
          <p:spPr>
            <a:xfrm>
              <a:off x="3281400" y="355428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G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上的酪氨酸残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7" name="Text Box 14"/>
          <p:cNvSpPr/>
          <p:nvPr/>
        </p:nvSpPr>
        <p:spPr>
          <a:xfrm>
            <a:off x="4621320" y="25210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0096"/>
                </a:solidFill>
                <a:latin typeface="Times New Roman"/>
                <a:ea typeface="宋体"/>
              </a:rPr>
              <a:t>M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0096"/>
                </a:solidFill>
                <a:latin typeface="Times New Roman"/>
                <a:ea typeface="宋体"/>
              </a:rPr>
              <a:t>D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15"/>
          <p:cNvGrpSpPr/>
          <p:nvPr/>
        </p:nvGrpSpPr>
        <p:grpSpPr>
          <a:xfrm>
            <a:off x="5375160" y="836640"/>
            <a:ext cx="1346400" cy="2288520"/>
            <a:chOff x="5375160" y="836640"/>
            <a:chExt cx="1346400" cy="2288520"/>
          </a:xfrm>
        </p:grpSpPr>
        <p:sp>
          <p:nvSpPr>
            <p:cNvPr id="139" name="Line 16"/>
            <p:cNvSpPr/>
            <p:nvPr/>
          </p:nvSpPr>
          <p:spPr>
            <a:xfrm>
              <a:off x="5375160" y="3124080"/>
              <a:ext cx="134640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Text Box 17"/>
            <p:cNvSpPr/>
            <p:nvPr/>
          </p:nvSpPr>
          <p:spPr>
            <a:xfrm>
              <a:off x="5796000" y="836640"/>
              <a:ext cx="4492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过氧化物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1" name="Group 18"/>
          <p:cNvGrpSpPr/>
          <p:nvPr/>
        </p:nvGrpSpPr>
        <p:grpSpPr>
          <a:xfrm>
            <a:off x="6629400" y="2133720"/>
            <a:ext cx="990720" cy="1922760"/>
            <a:chOff x="6629400" y="2133720"/>
            <a:chExt cx="990720" cy="1922760"/>
          </a:xfrm>
        </p:grpSpPr>
        <p:sp>
          <p:nvSpPr>
            <p:cNvPr id="142" name="Text Box 19"/>
            <p:cNvSpPr/>
            <p:nvPr/>
          </p:nvSpPr>
          <p:spPr>
            <a:xfrm>
              <a:off x="6629400" y="2529000"/>
              <a:ext cx="60948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20"/>
            <p:cNvSpPr/>
            <p:nvPr/>
          </p:nvSpPr>
          <p:spPr>
            <a:xfrm>
              <a:off x="7086600" y="2133720"/>
              <a:ext cx="533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滤泡腔胶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4" name="Line 21"/>
          <p:cNvSpPr/>
          <p:nvPr/>
        </p:nvSpPr>
        <p:spPr>
          <a:xfrm>
            <a:off x="769608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7524720" y="2637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水解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23"/>
          <p:cNvSpPr/>
          <p:nvPr/>
        </p:nvSpPr>
        <p:spPr>
          <a:xfrm>
            <a:off x="971640" y="1052640"/>
            <a:ext cx="7715160" cy="36716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7" name="Group 24"/>
          <p:cNvGrpSpPr/>
          <p:nvPr/>
        </p:nvGrpSpPr>
        <p:grpSpPr>
          <a:xfrm>
            <a:off x="8291520" y="2008080"/>
            <a:ext cx="914400" cy="1844640"/>
            <a:chOff x="8291520" y="2008080"/>
            <a:chExt cx="914400" cy="1844640"/>
          </a:xfrm>
        </p:grpSpPr>
        <p:sp>
          <p:nvSpPr>
            <p:cNvPr id="148" name="Text Box 25"/>
            <p:cNvSpPr/>
            <p:nvPr/>
          </p:nvSpPr>
          <p:spPr>
            <a:xfrm>
              <a:off x="8291520" y="20080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血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Text Box 26"/>
            <p:cNvSpPr/>
            <p:nvPr/>
          </p:nvSpPr>
          <p:spPr>
            <a:xfrm>
              <a:off x="8534520" y="2565360"/>
              <a:ext cx="60948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0" name="Group 27"/>
          <p:cNvGrpSpPr/>
          <p:nvPr/>
        </p:nvGrpSpPr>
        <p:grpSpPr>
          <a:xfrm>
            <a:off x="3567240" y="5715000"/>
            <a:ext cx="1747800" cy="937440"/>
            <a:chOff x="3567240" y="5715000"/>
            <a:chExt cx="1747800" cy="937440"/>
          </a:xfrm>
        </p:grpSpPr>
        <p:sp>
          <p:nvSpPr>
            <p:cNvPr id="151" name="Text Box 28"/>
            <p:cNvSpPr/>
            <p:nvPr/>
          </p:nvSpPr>
          <p:spPr>
            <a:xfrm>
              <a:off x="3943440" y="61927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下丘脑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29"/>
            <p:cNvSpPr/>
            <p:nvPr/>
          </p:nvSpPr>
          <p:spPr>
            <a:xfrm>
              <a:off x="3567240" y="5715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R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3" name="Group 30"/>
          <p:cNvGrpSpPr/>
          <p:nvPr/>
        </p:nvGrpSpPr>
        <p:grpSpPr>
          <a:xfrm>
            <a:off x="3635280" y="4869000"/>
            <a:ext cx="1697040" cy="889920"/>
            <a:chOff x="3635280" y="4869000"/>
            <a:chExt cx="1697040" cy="889920"/>
          </a:xfrm>
        </p:grpSpPr>
        <p:sp>
          <p:nvSpPr>
            <p:cNvPr id="154" name="Text Box 31"/>
            <p:cNvSpPr/>
            <p:nvPr/>
          </p:nvSpPr>
          <p:spPr>
            <a:xfrm>
              <a:off x="3960720" y="52992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腺垂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Text Box 32"/>
            <p:cNvSpPr/>
            <p:nvPr/>
          </p:nvSpPr>
          <p:spPr>
            <a:xfrm>
              <a:off x="3635280" y="4869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S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6" name="Text Box 33"/>
          <p:cNvSpPr/>
          <p:nvPr/>
        </p:nvSpPr>
        <p:spPr>
          <a:xfrm>
            <a:off x="3492360" y="333360"/>
            <a:ext cx="5651640" cy="581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甲状腺激素合成、分泌、调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34"/>
          <p:cNvSpPr/>
          <p:nvPr/>
        </p:nvSpPr>
        <p:spPr>
          <a:xfrm>
            <a:off x="1410840" y="28526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Oval 35"/>
          <p:cNvSpPr/>
          <p:nvPr/>
        </p:nvSpPr>
        <p:spPr>
          <a:xfrm>
            <a:off x="611280" y="2565360"/>
            <a:ext cx="647640" cy="57636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  <a:ea typeface="宋体"/>
              </a:rPr>
              <a:t>碘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6"/>
          <p:cNvSpPr/>
          <p:nvPr/>
        </p:nvSpPr>
        <p:spPr>
          <a:xfrm>
            <a:off x="4500720" y="5734080"/>
            <a:ext cx="360360" cy="504720"/>
          </a:xfrm>
          <a:prstGeom prst="upArrow">
            <a:avLst>
              <a:gd name="adj1" fmla="val 50000"/>
              <a:gd name="adj2" fmla="val 35015"/>
            </a:avLst>
          </a:prstGeom>
          <a:solidFill>
            <a:srgbClr val="8ac8de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7"/>
          <p:cNvSpPr/>
          <p:nvPr/>
        </p:nvSpPr>
        <p:spPr>
          <a:xfrm>
            <a:off x="4500720" y="4797360"/>
            <a:ext cx="358560" cy="576360"/>
          </a:xfrm>
          <a:prstGeom prst="upArrow">
            <a:avLst>
              <a:gd name="adj1" fmla="val 50000"/>
              <a:gd name="adj2" fmla="val 4018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38"/>
          <p:cNvGrpSpPr/>
          <p:nvPr/>
        </p:nvGrpSpPr>
        <p:grpSpPr>
          <a:xfrm>
            <a:off x="4900320" y="3657600"/>
            <a:ext cx="3975480" cy="2318040"/>
            <a:chOff x="4900320" y="3657600"/>
            <a:chExt cx="3975480" cy="2318040"/>
          </a:xfrm>
        </p:grpSpPr>
        <p:cxnSp>
          <p:nvCxnSpPr>
            <p:cNvPr id="162" name="AutoShape 39"/>
            <p:cNvCxnSpPr/>
            <p:nvPr/>
          </p:nvCxnSpPr>
          <p:spPr>
            <a:xfrm rot="5400000">
              <a:off x="6120000" y="2437560"/>
              <a:ext cx="1535760" cy="3975840"/>
            </a:xfrm>
            <a:prstGeom prst="curvedConnector2">
              <a:avLst/>
            </a:prstGeom>
            <a:ln w="76320">
              <a:solidFill>
                <a:srgbClr val="0066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63" name="AutoShape 40"/>
            <p:cNvCxnSpPr>
              <a:stCxn id="149" idx="2"/>
              <a:endCxn id="152" idx="3"/>
            </p:cNvCxnSpPr>
            <p:nvPr/>
          </p:nvCxnSpPr>
          <p:spPr>
            <a:xfrm rot="5400000">
              <a:off x="5763960" y="2900520"/>
              <a:ext cx="2250000" cy="3900600"/>
            </a:xfrm>
            <a:prstGeom prst="curvedConnector2">
              <a:avLst/>
            </a:prstGeom>
            <a:ln w="76320">
              <a:solidFill>
                <a:srgbClr val="006600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164" name="Text Box 41"/>
            <p:cNvSpPr/>
            <p:nvPr/>
          </p:nvSpPr>
          <p:spPr>
            <a:xfrm>
              <a:off x="6732720" y="4869000"/>
              <a:ext cx="1295280" cy="45972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负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42"/>
          <p:cNvSpPr/>
          <p:nvPr/>
        </p:nvSpPr>
        <p:spPr>
          <a:xfrm>
            <a:off x="2340000" y="141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甲状腺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6" name="Group 43"/>
          <p:cNvGrpSpPr/>
          <p:nvPr/>
        </p:nvGrpSpPr>
        <p:grpSpPr>
          <a:xfrm>
            <a:off x="273960" y="2421000"/>
            <a:ext cx="6647760" cy="1591920"/>
            <a:chOff x="273960" y="2421000"/>
            <a:chExt cx="6647760" cy="1591920"/>
          </a:xfrm>
        </p:grpSpPr>
        <p:sp>
          <p:nvSpPr>
            <p:cNvPr id="167" name="Rectangle 44"/>
            <p:cNvSpPr/>
            <p:nvPr/>
          </p:nvSpPr>
          <p:spPr>
            <a:xfrm>
              <a:off x="273960" y="342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聚碘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Rectangle 45"/>
            <p:cNvSpPr/>
            <p:nvPr/>
          </p:nvSpPr>
          <p:spPr>
            <a:xfrm>
              <a:off x="1931040" y="342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氧化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Rectangle 46"/>
            <p:cNvSpPr/>
            <p:nvPr/>
          </p:nvSpPr>
          <p:spPr>
            <a:xfrm>
              <a:off x="3947400" y="2421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碘化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Rectangle 47"/>
            <p:cNvSpPr/>
            <p:nvPr/>
          </p:nvSpPr>
          <p:spPr>
            <a:xfrm>
              <a:off x="6466680" y="3644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偶联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40000" y="333000"/>
            <a:ext cx="2963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持机体的正常生长发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胎儿、新生：呆小病（克汀病），新生儿呼吸窘迫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成人：黏液性水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代谢和产热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基础代谢率升高，产热增多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高交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肾上腺系统的敏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提高机体对儿茶酚胺类的反应性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分泌过多（</a:t>
            </a: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甲亢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67A2-32C9-48BC-AD7E-9E17FFC8C98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rcRect l="5318" t="0" r="13146" b="0"/>
          <a:stretch/>
        </p:blipFill>
        <p:spPr>
          <a:xfrm>
            <a:off x="5867280" y="4005360"/>
            <a:ext cx="2305080" cy="23763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6927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6" name="Picture 5" descr="11472269573537722"/>
          <p:cNvPicPr/>
          <p:nvPr/>
        </p:nvPicPr>
        <p:blipFill>
          <a:blip r:embed="rId2"/>
          <a:stretch/>
        </p:blipFill>
        <p:spPr>
          <a:xfrm>
            <a:off x="468360" y="400536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粘液性水肿2"/>
          <p:cNvPicPr/>
          <p:nvPr/>
        </p:nvPicPr>
        <p:blipFill>
          <a:blip r:embed="rId3"/>
          <a:stretch/>
        </p:blipFill>
        <p:spPr>
          <a:xfrm>
            <a:off x="2987640" y="4005360"/>
            <a:ext cx="2736720" cy="2303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snap022"/>
          <p:cNvPicPr/>
          <p:nvPr/>
        </p:nvPicPr>
        <p:blipFill>
          <a:blip r:embed="rId4"/>
          <a:stretch/>
        </p:blipFill>
        <p:spPr>
          <a:xfrm>
            <a:off x="2700360" y="981000"/>
            <a:ext cx="3168720" cy="2952720"/>
          </a:xfrm>
          <a:prstGeom prst="rect">
            <a:avLst/>
          </a:prstGeom>
          <a:ln w="0">
            <a:noFill/>
          </a:ln>
        </p:spPr>
      </p:pic>
      <p:sp>
        <p:nvSpPr>
          <p:cNvPr id="179" name="标题 6"/>
          <p:cNvSpPr/>
          <p:nvPr/>
        </p:nvSpPr>
        <p:spPr>
          <a:xfrm>
            <a:off x="5940360" y="333360"/>
            <a:ext cx="2963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CCEA-18FD-4716-9086-5F226EB8065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24360" y="285480"/>
            <a:ext cx="3051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395280" y="1484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甲状腺功能减退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呆小病：应尽早诊治，常用甲状腺片口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②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黏液性水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片，从小剂量开始，基础代谢率正常，至维持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21"/>
          <p:cNvSpPr/>
          <p:nvPr/>
        </p:nvSpPr>
        <p:spPr>
          <a:xfrm>
            <a:off x="395280" y="3141720"/>
            <a:ext cx="76327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替代疗法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纯性甲状腺肿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节性甲状腺肿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慢性甲状腺炎和甲状腺功能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碘所致，补充碘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癌术后应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可抑制残余癌变组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圆角矩形 3"/>
          <p:cNvSpPr/>
          <p:nvPr/>
        </p:nvSpPr>
        <p:spPr>
          <a:xfrm>
            <a:off x="684360" y="1628640"/>
            <a:ext cx="7632720" cy="1500480"/>
          </a:xfrm>
          <a:prstGeom prst="roundRect">
            <a:avLst>
              <a:gd name="adj" fmla="val 12264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制剂适当剂量无任何不良反应，但有蓄积作用，因而常有过量的危险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矩形 5"/>
          <p:cNvSpPr/>
          <p:nvPr/>
        </p:nvSpPr>
        <p:spPr>
          <a:xfrm>
            <a:off x="900000" y="3213000"/>
            <a:ext cx="7272360" cy="178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过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功能亢进表现，诱发心绞痛与心肌梗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用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受体阻断剂对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12-15T03:30:54Z</dcterms:modified>
  <cp:revision>113</cp:revision>
  <dc:subject/>
  <dc:title>内科护理学</dc:title>
</cp:coreProperties>
</file>